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103-E28F-49B8-BC8D-134A84C6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82C-BDFD-4933-8C2E-D35D96B8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63D-32A6-45AF-B17F-7CF94009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116-666A-450B-95DE-152D8303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CCA-E610-45C2-93EA-3543DBFC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40E-7640-454B-8BE2-A73DE1E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4B8-3AEB-4DCD-B284-59D9FDB7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091-46F6-4B0C-8C69-D5A6D8E1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422-3074-48CA-A22D-D9310BB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37D-98AB-4B5F-95DA-8FFF3767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4EE-F3E5-4210-AFFE-2174951A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FB3-71DD-4AC5-85AA-C16F5F0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2919-CAE7-4735-827A-4A0D3D481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334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408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unication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sharing idea, thoughts, and feel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43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ounds simple? But how does it work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nder and Receiv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nder encodes the message into symbols or signals the receiver can interpret or de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eiver decodes the message and gives 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al / Non Verb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533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eld of experi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n I say the word “chicken” what do you think of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1722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2:03:38Z</dcterms:created>
  <dc:creator>*</dc:creator>
  <dc:description/>
  <dc:language>en-US</dc:language>
  <cp:lastModifiedBy>*</cp:lastModifiedBy>
  <dcterms:modified xsi:type="dcterms:W3CDTF">2011-09-07T12:20:34Z</dcterms:modified>
  <cp:revision>2</cp:revision>
  <dc:subject/>
  <dc:title>Communication</dc:title>
</cp:coreProperties>
</file>